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AutoShape 1"/>
          <p:cNvSpPr/>
          <p:nvPr/>
        </p:nvSpPr>
        <p:spPr>
          <a:xfrm>
            <a:off x="0" y="0"/>
            <a:ext cx="1440" cy="14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AutoShape 2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AutoShape 3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Text Box 4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0200" cy="38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540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1"/>
          </p:nvPr>
        </p:nvSpPr>
        <p:spPr>
          <a:xfrm>
            <a:off x="4020840" y="9721440"/>
            <a:ext cx="307188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A58ED-1E1E-4A1E-8ACA-F64CE79362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BCB6E-4E5E-4814-9A35-4C55D24652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Text Box 1"/>
          <p:cNvSpPr/>
          <p:nvPr/>
        </p:nvSpPr>
        <p:spPr>
          <a:xfrm>
            <a:off x="4021200" y="972180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95478-DB17-441F-807F-33727F0D50B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Text Box 2"/>
          <p:cNvSpPr/>
          <p:nvPr/>
        </p:nvSpPr>
        <p:spPr>
          <a:xfrm>
            <a:off x="992160" y="76824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B4C782-768C-46A3-A600-BF5CDF1123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 Box 1"/>
          <p:cNvSpPr/>
          <p:nvPr/>
        </p:nvSpPr>
        <p:spPr>
          <a:xfrm>
            <a:off x="992160" y="768240"/>
            <a:ext cx="51134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37A2C-055D-45F5-9D5B-E1A48C3C48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Text Box 1"/>
          <p:cNvSpPr/>
          <p:nvPr/>
        </p:nvSpPr>
        <p:spPr>
          <a:xfrm>
            <a:off x="-16909920" y="-15632280"/>
            <a:ext cx="51148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D649A-3839-4704-9B90-36E2408B50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 Box 1"/>
          <p:cNvSpPr/>
          <p:nvPr/>
        </p:nvSpPr>
        <p:spPr>
          <a:xfrm>
            <a:off x="-16909920" y="-15633720"/>
            <a:ext cx="5114880" cy="383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57D3F-8B2B-4236-8CEF-F3DD658D969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"/>
          <p:cNvSpPr/>
          <p:nvPr/>
        </p:nvSpPr>
        <p:spPr>
          <a:xfrm>
            <a:off x="-16911720" y="-15633720"/>
            <a:ext cx="511668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9CD79E-584B-4AF2-84D7-B05226E0834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Text Box 1"/>
          <p:cNvSpPr/>
          <p:nvPr/>
        </p:nvSpPr>
        <p:spPr>
          <a:xfrm>
            <a:off x="-16913160" y="-15635160"/>
            <a:ext cx="511632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F10AE-1FE0-4206-ADAB-0F481DAAD9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1"/>
          <p:cNvSpPr/>
          <p:nvPr/>
        </p:nvSpPr>
        <p:spPr>
          <a:xfrm>
            <a:off x="-16913160" y="-15635160"/>
            <a:ext cx="5118120" cy="384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9"/>
          <p:cNvSpPr/>
          <p:nvPr/>
        </p:nvSpPr>
        <p:spPr>
          <a:xfrm>
            <a:off x="4021200" y="972180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2BEF89-C994-47DB-97FB-0A5694E31D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 Box 1"/>
          <p:cNvSpPr/>
          <p:nvPr/>
        </p:nvSpPr>
        <p:spPr>
          <a:xfrm>
            <a:off x="-16911720" y="-15633720"/>
            <a:ext cx="511668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body"/>
          </p:nvPr>
        </p:nvSpPr>
        <p:spPr>
          <a:xfrm>
            <a:off x="709200" y="4860720"/>
            <a:ext cx="56768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0074-6F4B-45B1-9E01-65E3FE219EE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9A623-C49E-4839-AD33-6268DED8BB9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FA68-3FDE-4CDA-8CFD-61126CC368E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84BE-04E0-494E-BDA2-5D124EEF5AD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FD79E-7202-499D-AD9D-AB1E3302192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04B2-EEB9-486E-8CA0-ADBDAB1D1E5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BC21F-EF0E-4DB7-8F92-E459D84FF8B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DBF54-BFD5-40C1-A575-F2FDF510AE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386A-539A-4E3B-87A0-17B878DEBF8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AA5A87-BA15-4790-8E96-B7A04CF09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EA9688-E4BB-451D-A163-47591F7044E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58058D-AC5A-4398-86D2-B0BE2CCB54C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6024B-7699-4D35-9831-7F9251CB4D0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E2E420-8791-4C46-90BE-28C0E7833C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5CB491-DF8B-44BF-862D-9AEC01737F0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813D06-361B-45D8-9AEF-83B92E1B66E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B6EC45-3B72-4A86-A0ED-F53750EAFD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C0CE84-2050-4569-9CB2-F0BA1C9476A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22881-371A-4176-B88B-E6629319D2C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CB82AE-4C38-4045-B29B-E911C13F84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8BAE2-1E8D-4763-A78A-F1F2D746FD8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5A3DA-A2C4-429E-B8F1-3D0CAEAA6F1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719C-1F9D-4563-90BA-D89860997DB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904C6-A0C7-4BC3-82EE-4ECFA82423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57C6A-AE68-468B-851E-946BFBC9B8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BE84F-A34E-4254-B04D-B0295D8F73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E6C7-4FD9-4157-83AC-D084F0298D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7D079-8958-46DE-BF78-6113188CAB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A40A-67F8-4D4D-B027-B5802499F8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57919-7335-4A39-91DB-A3678176CAC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8B264-E11D-4A72-A711-B8A8EFDB41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35406-7C7E-4C28-AB37-D60C5AC3BE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3ABFB-EF07-44F2-A61C-88B0F32C9E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3587-DECE-4BE4-9439-1A0C214AEA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0D4-673D-47A8-A38C-FD63B05E89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F22-9267-42D1-9557-F93B1CEB816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DA6-959A-4B86-BEF3-D84A1B2D86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58AA-8F5B-425D-8205-CA200EFDF0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ED0-7EFD-4A85-98E3-B0C8461EF2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FD88-F937-45A5-967C-4E34D30809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EC4-3F25-497F-A967-5BD033D1E0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6C5-0292-46EC-9AC7-2B32741D59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22C-3206-4E26-AFEE-A5875F996D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18C5-5D70-4279-94DD-63FE36A540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EEF4-41FE-4F4D-901D-A90A197DC5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FA1BF-CA0F-40F4-8BA3-A1CFF3642CE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30AFD-A4D0-4207-BEAB-FE77147E1D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6C497-F950-4B6C-81AC-5187B7CE5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F6CB5-D5C8-49BC-8653-1B4B91C5320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CDDB8-C2C8-4468-BACE-EA297FD204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EE11D-3BA1-480F-9D2A-041F7E16F6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B6325-3D09-49C8-A514-DA7F2FE166F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F414A-ACC8-4E9D-A697-7DA2CDEA35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AF05D-A55D-4BAD-814A-73519D9D1A4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BB5CC-B090-45D2-84B9-9834E21C2E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A71BF-2BA6-4297-BF68-4A6BFBB794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EBBD0-3BD3-427F-B9D5-57C7C35B20A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9C73A7-A796-4C1F-8AD5-DF6169642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DD509-ADD2-4E1D-8F7A-B99035B3E06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81A490-888B-43EB-9CB0-6739A2527BD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2B032-4C03-4332-825D-7FA621FCDAEE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289CF-0533-42D6-8B65-A26743765E7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54DEB-E138-4600-B413-837485C5388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D09A3-2C94-425F-818D-5FEC6AD010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27F1A-8E11-4317-BEA2-9D7FC551404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6E937-2929-44C1-82D5-A34C234641F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7EBF8-4FB4-42D0-ADE1-692150B00F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9A576-47DA-4EFE-8F8B-5C55A6224B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F056E-470B-4F21-9DB9-BB39D34BFF3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A9C6E-822A-4900-B465-87A1B8C7656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0DBD-9E0E-43CD-8BB8-A56EB0FC88B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1F3F-4055-473A-BECD-88E216ECF37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69C8-6B74-452A-8B5E-6CE651934FB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2C8E-97A3-41C7-81C0-D2C334A2210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2A33-54C2-4343-9670-FF6D5DE583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A977-C895-4D9B-8037-0012C04579B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2D82C-34CE-4F51-BCC2-6CBB510F6D0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EEBD-CF85-445A-97EF-16E242704E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ACF1-A6D3-489C-A146-60E3701F84A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6C1E-06DA-4D28-8056-FAD7634E862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4604-8A58-4C0A-82A3-04EFFB34C92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C551F7-35D1-4B90-8542-D48FF174A08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0BF2E0-33E0-4651-BA57-069A2EB66C5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53F90B-62C1-4078-AC83-555C5747E2E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8D899-F03A-4480-8009-364B6D3605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F7A20-4527-49E9-B804-9DB434C945B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16FFA-1558-4F67-99B2-A921155FEC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42178E-6100-4B78-B122-F08CE130AB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EF21DD-CD8A-4BED-AE15-73E232D1B114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FB79F8-6631-4885-B6C3-58B1868A685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A64AA-AC9C-4847-8352-70037E82C8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065B1C-4E85-4433-BB43-D0E4D13C939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53FA41-542D-42D3-B83D-310DE0CF675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A10C50-0227-4BE1-9C3F-398887C7C1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BD7904-CF1D-4843-8E15-64EE176088F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D4AE2-AB50-4EBC-8657-97B2C64CAF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78630-B41F-4D5C-AEBE-17FD1F2A36A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82ACF-7A94-42EB-B5D8-EC3205C2B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78920" y="847440"/>
            <a:ext cx="83487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870CD5-208D-41F6-BE03-3540583F558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CC2840-7678-424A-A0DF-B4720AA63B5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19BCE6-7C70-4122-9C75-818EF4A6A3E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DB0177-3454-4BD2-8495-088C57A7F9E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291960" y="3968640"/>
            <a:ext cx="82756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1C320-E7AB-4EAD-B5BE-A7D7470DCF4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32760" y="160632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2919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32760" y="3968640"/>
            <a:ext cx="403848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BFE416-DFE7-4516-9C86-9BBB8A4ED31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8988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87800" y="160632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29196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08988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87800" y="3968640"/>
            <a:ext cx="2664360" cy="21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326630-20AA-4780-8F8A-519CBE118B0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509F0-B25F-4008-8DD9-2DF48DBDFBC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5AC8-366F-4CA6-987C-8417D86524D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AFABF-AD16-4AD3-8EF6-C72726E6B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B2721-4444-4B87-810A-70ED7ABEE9D9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8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223A3-0428-4A2D-BC47-582F0FB5B37F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892626-7A0C-4A5F-925A-1596ED4CC5D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1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0C3D6-FD10-44BC-A5F5-AFB6A56C68DD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482" name="Text Box 7"/>
          <p:cNvSpPr/>
          <p:nvPr/>
        </p:nvSpPr>
        <p:spPr>
          <a:xfrm>
            <a:off x="108000" y="6550200"/>
            <a:ext cx="2519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100" spc="-1" strike="noStrike">
                <a:solidFill>
                  <a:srgbClr val="9a9a9a"/>
                </a:solidFill>
                <a:latin typeface="Comic Sans MS"/>
              </a:rPr>
              <a:t>Firenze 7th October 201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85" name="Picture 7" descr="life"/>
          <p:cNvPicPr/>
          <p:nvPr/>
        </p:nvPicPr>
        <p:blipFill>
          <a:blip r:embed="rId4"/>
          <a:stretch/>
        </p:blipFill>
        <p:spPr>
          <a:xfrm>
            <a:off x="2841480" y="6540480"/>
            <a:ext cx="506520" cy="34452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15"/>
          <p:cNvSpPr/>
          <p:nvPr/>
        </p:nvSpPr>
        <p:spPr>
          <a:xfrm>
            <a:off x="3337920" y="65689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200" spc="-1" strike="noStrike">
                <a:solidFill>
                  <a:srgbClr val="3333cc"/>
                </a:solidFill>
                <a:latin typeface="Arial"/>
              </a:rPr>
              <a:t>LIFE10 ENV/IT/40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Rectangle 16"/>
          <p:cNvSpPr/>
          <p:nvPr/>
        </p:nvSpPr>
        <p:spPr>
          <a:xfrm>
            <a:off x="4001040" y="6611760"/>
            <a:ext cx="4880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743040" indent="-28584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it-IT" sz="800" spc="-1" strike="noStrike">
                <a:solidFill>
                  <a:srgbClr val="3333cc"/>
                </a:solidFill>
                <a:latin typeface="Arial"/>
                <a:ea typeface="Lucida Sans Unicode"/>
              </a:rPr>
              <a:t>With the contribution of the LIFE financial instrument of the European Community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1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525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7AB797-5991-44E4-B1A4-BCA2BA37020A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00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Picture 6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7"/>
          <p:cNvSpPr/>
          <p:nvPr/>
        </p:nvSpPr>
        <p:spPr>
          <a:xfrm>
            <a:off x="1561320" y="6504120"/>
            <a:ext cx="552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Comic Sans MS"/>
              </a:rPr>
              <a:t>Intercettazioni telefoniche e ambientali, 26 settembre 2008,  Firenz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A1AC6-837B-4D09-B6C1-AEE63F2D8644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1"/>
          </p:nvPr>
        </p:nvSpPr>
        <p:spPr>
          <a:xfrm>
            <a:off x="195120" y="6500880"/>
            <a:ext cx="580104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odologie di prototipazione virtuale per l'indust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9E7CA7-72BB-4280-99DA-C0364B2A92B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046CD-8A86-4A05-8007-7E54AF642AAE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7F97F4-6526-42A0-B78D-8CC5FC9315D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B4B68-D921-4A2B-BC6C-713FE611422B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8700A3-96B4-4A44-A43F-FD8C0C53032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85731-1D0F-4B10-8F74-DA115032D3D1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1463E41-15EB-4209-8EA0-4F57293FD17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CA114-C047-4489-9FB9-4B9FE5D27FE6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09400A-0F22-4040-91B8-907F12CA960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AB353-5EEC-4084-8B7F-A477018BA6D3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7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4F7FF7-D372-4171-B512-16A3A17CBB6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04288-51E4-42F2-9009-0C49C58DE318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C1C7A4-999D-407A-B85A-E81E84D10BB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1" descr=""/>
          <p:cNvPicPr/>
          <p:nvPr/>
        </p:nvPicPr>
        <p:blipFill>
          <a:blip r:embed="rId2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2"/>
          <p:cNvSpPr/>
          <p:nvPr/>
        </p:nvSpPr>
        <p:spPr>
          <a:xfrm>
            <a:off x="5003640" y="65246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6786720" y="6500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067F6-0377-4A5B-B84D-1F1412D4ECE4}" type="slidenum"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79280" y="6381720"/>
            <a:ext cx="8817120" cy="7164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79280" y="6453360"/>
            <a:ext cx="35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234000" y="6500880"/>
            <a:ext cx="4015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Rounded MT Bold"/>
              </a:rPr>
              <a:t>Metodologie di prototipazione virtuale per l'industri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6" name="Picture 7" descr=""/>
          <p:cNvPicPr/>
          <p:nvPr/>
        </p:nvPicPr>
        <p:blipFill>
          <a:blip r:embed="rId3"/>
          <a:stretch/>
        </p:blipFill>
        <p:spPr>
          <a:xfrm>
            <a:off x="142920" y="0"/>
            <a:ext cx="8820000" cy="8985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78920" y="847440"/>
            <a:ext cx="834876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1" i="1" lang="en-US" sz="3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291960" y="1606320"/>
            <a:ext cx="82756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7000"/>
              </a:lnSpc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43080" indent="-343080">
              <a:lnSpc>
                <a:spcPct val="117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11"/>
          <p:cNvSpPr/>
          <p:nvPr/>
        </p:nvSpPr>
        <p:spPr>
          <a:xfrm>
            <a:off x="195120" y="6500880"/>
            <a:ext cx="580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2929EB-3A73-41A6-B620-B2534B7CFD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1"/>
          <p:cNvSpPr/>
          <p:nvPr/>
        </p:nvSpPr>
        <p:spPr>
          <a:xfrm>
            <a:off x="324000" y="1057320"/>
            <a:ext cx="856908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0" bIns="46800" anchor="t">
            <a:noAutofit/>
          </a:bodyPr>
          <a:p>
            <a:pPr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9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9a9a9a"/>
                </a:solidFill>
                <a:latin typeface="Comic Sans MS"/>
              </a:rPr>
              <a:t>Kick-off meeting – Firenze, 7th October 201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QUADM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Comic Sans MS"/>
              </a:rPr>
              <a:t>LIFE+2010/ENV/4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General presentation of the pro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1"/>
          <p:cNvSpPr/>
          <p:nvPr/>
        </p:nvSpPr>
        <p:spPr>
          <a:xfrm>
            <a:off x="3060720" y="1979640"/>
            <a:ext cx="2517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it-IT" sz="3000" spc="-1" strike="noStrike">
                <a:solidFill>
                  <a:srgbClr val="ff0000"/>
                </a:solidFill>
                <a:latin typeface="Comic Sans MS"/>
              </a:rPr>
              <a:t>Summa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Text Box 2"/>
          <p:cNvSpPr/>
          <p:nvPr/>
        </p:nvSpPr>
        <p:spPr>
          <a:xfrm>
            <a:off x="360360" y="3129120"/>
            <a:ext cx="845964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6800" anchor="t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Beneficiaries and Suppor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ackages and Actions</a:t>
            </a:r>
            <a:br>
              <a:rPr sz="2600"/>
            </a:b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xpected Resul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287280" y="1187280"/>
            <a:ext cx="864072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QU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IET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AS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FINITION AND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NAGEMENT IN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ION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LA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1"/>
          <p:cNvSpPr/>
          <p:nvPr/>
        </p:nvSpPr>
        <p:spPr>
          <a:xfrm>
            <a:off x="0" y="1449360"/>
            <a:ext cx="9180360" cy="51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Coordinating beneficiar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 - Università di Firenze, Dipartimento di Meccanica e Tecnologie Industriali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Associated beneficiar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 - DCMR Environmental Protection Agency (DCMR EP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 - Area de Obras y Servicios, Ayuntamiento de Bilbao (BILBA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 - TECNAL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 - VIE EN.RO.SE. Ingegneria S.r.l. (VIE EN.RO.SE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6 - Comune di Firenze (FIRENZ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7 – BRUITPARI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Support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UROC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"/>
          <p:cNvSpPr/>
          <p:nvPr/>
        </p:nvSpPr>
        <p:spPr>
          <a:xfrm>
            <a:off x="565200" y="836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Beneficiaries and Suppor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1"/>
          <p:cNvSpPr/>
          <p:nvPr/>
        </p:nvSpPr>
        <p:spPr>
          <a:xfrm>
            <a:off x="611280" y="1581120"/>
            <a:ext cx="784836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urrent practices about selection, assessment and management of Quiet Areas in EU Countries, though regulated by the EU Directive 49/2002/CE on Environmental Noise, appear to be extremely fragmented and inhomogeneous. In fact, each country during past years has adopted a set of strategies strictly related to their specific contex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main aim of QUADMAP is to develop a harmonized methodology for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ssessment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combining quantitative and qualitative parameters) and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noise mitigation, increasing of usability of areas and user’s satisfaction) of Urban Quiet Areas (UQA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he results of the project will facilitate urban planners to apply standard procedures for identification, delimitation and prioritization of UQ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Text Box 2"/>
          <p:cNvSpPr/>
          <p:nvPr/>
        </p:nvSpPr>
        <p:spPr>
          <a:xfrm>
            <a:off x="565200" y="971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Project Objectiv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1"/>
          <p:cNvSpPr/>
          <p:nvPr/>
        </p:nvSpPr>
        <p:spPr>
          <a:xfrm>
            <a:off x="1079640" y="1603440"/>
            <a:ext cx="7056360" cy="36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A: Data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B: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C: Demon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D: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ckage E: General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2"/>
          <p:cNvSpPr/>
          <p:nvPr/>
        </p:nvSpPr>
        <p:spPr>
          <a:xfrm>
            <a:off x="565200" y="971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Packages and A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 Box 1"/>
          <p:cNvSpPr/>
          <p:nvPr/>
        </p:nvSpPr>
        <p:spPr>
          <a:xfrm>
            <a:off x="0" y="508464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rt data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01.09.20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pected end data: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30.09.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1"/>
          <p:cNvSpPr/>
          <p:nvPr/>
        </p:nvSpPr>
        <p:spPr>
          <a:xfrm>
            <a:off x="0" y="1628640"/>
            <a:ext cx="91440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Arial"/>
              </a:rPr>
              <a:t>Package A: Data Col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A.1 - Method for data collection definition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s A.2 / A.5 - Data collection and analysis - The Netherlands, Belgium, Norway and United Kingdom (DCMR EPA) – Italy and Germany (VIENROSE) – Spain and Portugal (TECNALIA) – France (BRUITPARI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 Box 2"/>
          <p:cNvSpPr/>
          <p:nvPr/>
        </p:nvSpPr>
        <p:spPr>
          <a:xfrm>
            <a:off x="565200" y="971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Packages and A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Picture 2" descr=""/>
          <p:cNvPicPr/>
          <p:nvPr/>
        </p:nvPicPr>
        <p:blipFill>
          <a:blip r:embed="rId1"/>
          <a:stretch/>
        </p:blipFill>
        <p:spPr>
          <a:xfrm>
            <a:off x="5129280" y="3716280"/>
            <a:ext cx="4014720" cy="26668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1"/>
          <p:cNvSpPr/>
          <p:nvPr/>
        </p:nvSpPr>
        <p:spPr>
          <a:xfrm>
            <a:off x="0" y="3716280"/>
            <a:ext cx="5076720" cy="16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ckage B: Method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B.6 - UQA methodologies for selection, analysis and definition both strategic and operative actions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Rettangolo 5"/>
          <p:cNvSpPr/>
          <p:nvPr/>
        </p:nvSpPr>
        <p:spPr>
          <a:xfrm>
            <a:off x="5627520" y="3989520"/>
            <a:ext cx="1465560" cy="503280"/>
          </a:xfrm>
          <a:prstGeom prst="rect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Rettangolo 6"/>
          <p:cNvSpPr/>
          <p:nvPr/>
        </p:nvSpPr>
        <p:spPr>
          <a:xfrm>
            <a:off x="6516720" y="4437000"/>
            <a:ext cx="576360" cy="21600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5129280" y="3716280"/>
            <a:ext cx="4014720" cy="266688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"/>
          <p:cNvSpPr/>
          <p:nvPr/>
        </p:nvSpPr>
        <p:spPr>
          <a:xfrm>
            <a:off x="0" y="1268280"/>
            <a:ext cx="9144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7030a0"/>
                </a:solidFill>
                <a:latin typeface="Arial"/>
              </a:rPr>
              <a:t>Package C: Demonst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C.7 / C.12 - Pilot areas selection, interventions design and accomplishment will be carried out in FIRENZE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chool gardens and squar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, BILBAO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urban and peri-urban quiet area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and in a city of The Netherlands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quiet areas in the city centre and residential plac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pected infrastructural costs = 655.000,00 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2"/>
          <p:cNvSpPr/>
          <p:nvPr/>
        </p:nvSpPr>
        <p:spPr>
          <a:xfrm>
            <a:off x="565200" y="836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Packages and A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1"/>
          <p:cNvSpPr/>
          <p:nvPr/>
        </p:nvSpPr>
        <p:spPr>
          <a:xfrm>
            <a:off x="0" y="3308400"/>
            <a:ext cx="50767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c000"/>
                </a:solidFill>
                <a:latin typeface="Arial"/>
              </a:rPr>
              <a:t>Package D: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D.13 - Methodology optimization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ackage E: General Activ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s E.14 / E.20 – Dissemination (all partners will be involv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tion E.21/22/23 - Project Management/Monitoring/Networking (UNIFI-DMT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ttangolo 5"/>
          <p:cNvSpPr/>
          <p:nvPr/>
        </p:nvSpPr>
        <p:spPr>
          <a:xfrm>
            <a:off x="7068960" y="4581360"/>
            <a:ext cx="1032120" cy="648000"/>
          </a:xfrm>
          <a:prstGeom prst="rect">
            <a:avLst/>
          </a:prstGeom>
          <a:noFill/>
          <a:ln w="381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ttangolo 6"/>
          <p:cNvSpPr/>
          <p:nvPr/>
        </p:nvSpPr>
        <p:spPr>
          <a:xfrm>
            <a:off x="7068960" y="5229360"/>
            <a:ext cx="1032120" cy="81000"/>
          </a:xfrm>
          <a:prstGeom prst="rect">
            <a:avLst/>
          </a:prstGeom>
          <a:noFill/>
          <a:ln w="381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Rettangolo 7"/>
          <p:cNvSpPr/>
          <p:nvPr/>
        </p:nvSpPr>
        <p:spPr>
          <a:xfrm>
            <a:off x="6516720" y="5334120"/>
            <a:ext cx="1751040" cy="7189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ttangolo 8"/>
          <p:cNvSpPr/>
          <p:nvPr/>
        </p:nvSpPr>
        <p:spPr>
          <a:xfrm>
            <a:off x="5651640" y="6093000"/>
            <a:ext cx="2616120" cy="28872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565200" y="971640"/>
            <a:ext cx="82548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Arial"/>
              </a:rPr>
              <a:t>QUADMAP – Expected resul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Text Box 1"/>
          <p:cNvSpPr/>
          <p:nvPr/>
        </p:nvSpPr>
        <p:spPr>
          <a:xfrm>
            <a:off x="611280" y="1700280"/>
            <a:ext cx="8532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- A guideline about a harmonized methodolo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electio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ment and management  of Urban Quiet Areas (UQ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duction up to 10-15% of the time required in order to derive UQAs management solutions in those countries where such a methodology is still factually lac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respect to the average situation pointed out by surveys in package A, the harmonized approach is additionally expected to increase citizens' satisfaction about UQA of at least: 40% in UQA selection; 30% in UQA analysis; 20% in UQA managemen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base, publicly available,  comprising the collected methodologies along with their lim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-the-field data employed for case studies will be published, along with applicative examples (design solutio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9:14:23Z</dcterms:created>
  <dc:creator>nome</dc:creator>
  <dc:description/>
  <dc:language>en-US</dc:language>
  <cp:lastModifiedBy>WOLFERT</cp:lastModifiedBy>
  <dcterms:modified xsi:type="dcterms:W3CDTF">2013-07-24T08:09:12Z</dcterms:modified>
  <cp:revision>886</cp:revision>
  <dc:subject/>
  <dc:title>Diapositiva 1</dc:title>
</cp:coreProperties>
</file>