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1"/>
          <p:cNvSpPr/>
          <p:nvPr/>
        </p:nvSpPr>
        <p:spPr>
          <a:xfrm>
            <a:off x="0" y="0"/>
            <a:ext cx="1440" cy="1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1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30C84-9216-4850-8204-F54D708754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D41DF-8AC7-4E53-8D85-234ADD71DB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99B3B-481B-4077-A7FE-DC1C3809A6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B9880-E4C6-40FD-9CA0-B071786954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99216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76796-8C1E-43CF-BDC5-D04C57587A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1"/>
          <p:cNvSpPr/>
          <p:nvPr/>
        </p:nvSpPr>
        <p:spPr>
          <a:xfrm>
            <a:off x="-16909920" y="-156322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50928-1EB2-43EF-97EF-2F39316791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1"/>
          <p:cNvSpPr/>
          <p:nvPr/>
        </p:nvSpPr>
        <p:spPr>
          <a:xfrm>
            <a:off x="-16909920" y="-15633720"/>
            <a:ext cx="511488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2B2AE-302A-4804-9D45-0F46D87799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"/>
          <p:cNvSpPr/>
          <p:nvPr/>
        </p:nvSpPr>
        <p:spPr>
          <a:xfrm>
            <a:off x="-16911720" y="-15633720"/>
            <a:ext cx="511668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C5005-26D4-4725-93BC-27FD4F6606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-16913160" y="-15635160"/>
            <a:ext cx="511632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E9E06-13A8-44CA-8607-6C1FB7C0A2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"/>
          <p:cNvSpPr/>
          <p:nvPr/>
        </p:nvSpPr>
        <p:spPr>
          <a:xfrm>
            <a:off x="-16913160" y="-15635160"/>
            <a:ext cx="511812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3C174-A11A-4E6B-8F73-3F377A522D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"/>
          <p:cNvSpPr/>
          <p:nvPr/>
        </p:nvSpPr>
        <p:spPr>
          <a:xfrm>
            <a:off x="-16911720" y="-15633720"/>
            <a:ext cx="511668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594F-4408-49C3-8551-5D9E617E63E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E61F-F871-410C-9F10-6878F014E1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803B-1ECA-4E3B-8300-EF6317FF31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E0F9-6A86-4EC0-A058-1FA36E83064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08A67-831F-4543-81FB-FDE72CB436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4E719-47BB-431A-A028-3177EA15691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5CD0-7B63-42C4-AC4F-A381D17F6F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5CC6-0B43-4450-A3C3-4F8F617D17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E121-4283-4C06-B5FC-573222C5C32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80299-5EBF-4A1A-9A90-C989C643A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FD6D9-6583-406E-BAF3-E0E8073B708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E2B30-6833-4401-9762-B57AE8D9BCB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05677-5DB3-475D-AF4A-2C285AE53D0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9140F-AD9A-428A-BFB7-ABA301D4A3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3613A-5156-425D-A56D-CCE5D3DBAD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D58E5-9A29-4CC0-83C8-AC0491D0BCE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5A4DF-9775-4369-862D-974A8CD984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56BC3-B453-4C02-ADF4-C900E47FA70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78525-5932-4C81-922D-E5001D1322C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0FE91-DA76-4C27-AE1F-5D81ECC70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00AEA-3464-4C19-B671-D2B3DDD52CE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16CA-2D30-4C38-B567-89E2FA1BC7D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E129-AC86-4372-A4F3-5EA18A4173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B112-9BC4-4E3F-AA17-3FC62C8A9B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DC85-6684-4EB3-9013-EA89532527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6E29-7B41-4E04-839C-C0FC6ADEAD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C545-371C-4AEE-8A74-FC00946034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BB30-3987-4287-BBD1-47D7E8E19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9A17-382F-4D55-865A-D7F06502A7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04F8-77DA-4763-9218-DC79E8A745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A263-FFC0-4C91-ACDF-B159ADFBB9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6478-CE76-4BB2-A764-E620704C19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BB20-82BB-4C77-8A76-B1AC3EF5EE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F47-9BA8-4C1F-A325-E34AD6D74C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920-360A-4B24-B245-505CCB1CDC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511-CE70-41FC-8FB9-376060630B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4D7-6AAC-41D8-8875-7626DE30D6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63D-6F8A-46C4-9347-711160074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F71-A04F-4335-9E30-4CBF71BB96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E08-8DC1-479B-9808-3AF22512CF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1FF-6431-42D3-BDB6-80C81D8EBA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53B-FC78-49F6-B931-B3AA28674D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8EA-2733-4A8D-8D15-96CB03C582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55A-D955-466C-BC6A-BE1DCF0492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682-5E0F-4444-B7B9-480C3AF2C9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7A8C7-A930-4271-9528-C12119AB73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F5232-90B0-4ECC-B9B1-896678FAB3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145F2-6D9C-4675-A7A0-E45398456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AAE00-7CFC-4618-AE8E-4E38D5E41E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B6082-F433-4DE6-9F97-790C6008F4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FB1E6-710F-422F-9EBF-F5A583072B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08C58-46AC-484D-9B25-E7243DB778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CACE8-8583-4B71-803F-E3B969C225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652B4-803C-4133-B891-06D1D1B7A4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3EBC5-7531-4AB4-A243-8574E9750D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6834B-B72F-44A9-B9E3-91282CC3D3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F9A87-BAC3-4D2F-8DF8-53225190E7F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27701-DE9E-4B42-B45C-3A966DEEF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89BC9-9304-419E-ADEC-9918B285788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402A4-5EB0-480F-98D8-4FAD16FBD9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DD68D-AC9B-4D11-B51E-F074B71F31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55E45-ED5F-476B-B7EC-7AF99EB1F2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50987-C6F6-4B13-A52F-0018B28F1F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D3B8F-DA63-4AFE-92C5-CA828C5D05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8AA87-55A4-49C3-A4ED-E6DBA89AF0E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95AB3-5813-42AB-8C30-292AD0D445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9F5C8-F667-4093-A0B5-39E3CFF2D7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528BA-EAC2-4875-88AA-BE4190A1F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8BC11-D628-4F6A-806A-3766F7EECD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5E03-D185-42CC-95F8-C17BAA9F93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92C5-38D2-4336-A7B6-FF5E01ED89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CF30-44EA-4255-A833-8D8CDF56CB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CEB9-B7A2-4DDD-A89F-2FD76B34D78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6972-AE8C-4CB3-8594-C6A13F7CC6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70FA-4811-49D4-92C7-B26F35AA1C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231C-78F8-4A20-9FF6-FC852102CB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BD91-D465-45B9-9FA9-3C98300C88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723E-B4E8-41BD-979D-8D06E2100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F855-FFB7-40EB-88F4-A9C43F7125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8B5B-4A0E-4C99-9234-A4DCF08ECB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FE06-9C4F-413A-B85D-32AE003F213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DCE78-4E2A-409D-9855-4631EFC270B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14446-D2AB-4530-916A-8817938863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67853-B212-4403-B932-E9EBCCB7CC3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06EE1-8292-4829-AEF4-BA3B88A60A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39ABF-BBC5-44B6-8D51-6577C1C1FC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FFF2F-E319-4CE8-87B6-8155198850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F60E25-10BC-4669-AB91-7441914A7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62F2A-C968-451C-9313-AEF7CD0EF5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32FCB-E003-45F0-9F8D-D5C92BE6A0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596A0-2B10-4A1B-A16C-98F565493B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9322C-1D29-451C-8ABC-1DAE3E1FF29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A512E-B60A-4FAF-BFCE-FCEF78FABD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132C7-91BA-4559-B4E1-DB11797C691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376D4-CCF7-4ABC-BB8B-18394DDEE4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ABB7A-00EC-45A8-802F-BC17867CD0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18E57-F3B1-4385-9AE7-BE7950C2A1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5291F-700F-474D-8301-23CD75AA1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33D31-4407-420D-803E-7846141023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A9520-9F90-45BA-AEC4-5B9DD58BBD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A7F67-15F9-4EEB-BC20-60F1AFE8A6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507DD-0188-4C4D-8142-F07A742B0EF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06371-EF6E-4563-8CD1-11CF2E6C1A4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3BDDA-DC43-4BAA-89C9-F0EA808880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64C6E-BBE0-40DE-B622-7C5347E493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A74D-D64E-4DD5-9773-E7F558AC2B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A3D9-CE04-4B0D-8032-99744A5B08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783A-0AEB-4449-B987-1DB6F4CEB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0E55B-D24A-4DBD-8E1D-84B496100BA6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4AC4-8569-429F-A6EE-1C25487013AA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D6D503-367C-45ED-8C28-2B784A8E22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91D4E-9065-4C8D-A61C-EB4894B67B7E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7"/>
          <p:cNvSpPr/>
          <p:nvPr/>
        </p:nvSpPr>
        <p:spPr>
          <a:xfrm>
            <a:off x="108000" y="655020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9a9a9a"/>
                </a:solidFill>
                <a:latin typeface="Comic Sans MS"/>
              </a:rPr>
              <a:t>Firenze 7th October 20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5" name="Picture 7" descr="life"/>
          <p:cNvPicPr/>
          <p:nvPr/>
        </p:nvPicPr>
        <p:blipFill>
          <a:blip r:embed="rId4"/>
          <a:stretch/>
        </p:blipFill>
        <p:spPr>
          <a:xfrm>
            <a:off x="2841480" y="6540480"/>
            <a:ext cx="506520" cy="3445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5"/>
          <p:cNvSpPr/>
          <p:nvPr/>
        </p:nvSpPr>
        <p:spPr>
          <a:xfrm>
            <a:off x="3337920" y="65689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LIFE10 ENV/IT/4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6"/>
          <p:cNvSpPr/>
          <p:nvPr/>
        </p:nvSpPr>
        <p:spPr>
          <a:xfrm>
            <a:off x="4001040" y="6611760"/>
            <a:ext cx="4880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it-IT" sz="800" spc="-1" strike="noStrike">
                <a:solidFill>
                  <a:srgbClr val="3333cc"/>
                </a:solidFill>
                <a:latin typeface="Arial"/>
                <a:ea typeface="Lucida Sans Unicode"/>
              </a:rPr>
              <a:t>With the contribution of the LIFE financial instrument of the European Commun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59714-CAEA-4BC6-86C7-FD6C96CE9628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7"/>
          <p:cNvSpPr/>
          <p:nvPr/>
        </p:nvSpPr>
        <p:spPr>
          <a:xfrm>
            <a:off x="1561320" y="65041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Intercettazioni telefoniche e ambientali, 26 settembre 2008,  Firen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CFABF-9A48-4953-8EDC-20F2206D1D1D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1"/>
          </p:nvPr>
        </p:nvSpPr>
        <p:spPr>
          <a:xfrm>
            <a:off x="195120" y="6500880"/>
            <a:ext cx="580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odologie di prototipazione virtuale per l'indust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10ADBC-55AE-493F-92CE-6FA45B4ADD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EF57B-74CC-42D4-9543-2D1D8E58E94F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5228C3-B96A-4414-9B52-735E71FF82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8B680-BAE3-42F9-A26D-197EB59B3C88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281DF2-1C88-42F9-9434-75E81B072A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32D6B-80EB-433B-BCC3-09198E90C78F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4A6F07-FD59-43C3-8933-A672252DF6B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3A50C-637A-49E3-9AD0-13B4CBC8F3DE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1DB6C6-D529-4FAF-AD04-FAA82EE5AD1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D913F-43DD-4ADD-B981-18B4A2030C7C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7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508F29-7357-4953-BAFC-96591BEE2FE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649C-6750-4FD9-BB41-2B6D74417C5A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B0B55F-EC86-4DD0-948B-6C5837618A9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FB1DA-4B57-4B4D-BDDD-8C1E6A8BC260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B8356A-66A8-4758-AE1B-7B56F41D66F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"/>
          <p:cNvSpPr/>
          <p:nvPr/>
        </p:nvSpPr>
        <p:spPr>
          <a:xfrm>
            <a:off x="324000" y="1057320"/>
            <a:ext cx="856908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9a9a9a"/>
                </a:solidFill>
                <a:latin typeface="Comic Sans MS"/>
              </a:rPr>
              <a:t>Kick-off meeting – Firenze, 7th October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QUAD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LIFE+2010/ENV/4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General presentation of the 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3060720" y="1979640"/>
            <a:ext cx="251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ff0000"/>
                </a:solidFill>
                <a:latin typeface="Comic Sans MS"/>
              </a:rPr>
              <a:t>Summ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360360" y="3129120"/>
            <a:ext cx="845964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6800" anchor="t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eneficiaries and Suppor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ackages and Actions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xpected Resul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287280" y="1187280"/>
            <a:ext cx="86407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ET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AS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FINITION AND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AGEMENT IN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ION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0" y="1449360"/>
            <a:ext cx="918036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Coordinating beneficia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- Università di Firenze, Dipartimento di Meccanica e Tecnologie Industriali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Associated benefici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 - DCMR Environmental Protection Agency (DCMR EP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 - Area de Obras y Servicios, Ayuntamiento de Bilbao (BILBA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 - TECN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 - VIE EN.RO.SE. Ingegneria S.r.l. (VIE EN.RO.S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6 - Comune di Firenze (FIREN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7 – BRUITPAR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upport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UROC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65200" y="836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Beneficiaries and Suppor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"/>
          <p:cNvSpPr/>
          <p:nvPr/>
        </p:nvSpPr>
        <p:spPr>
          <a:xfrm>
            <a:off x="611280" y="1581120"/>
            <a:ext cx="784836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urrent practices about selection, assessment and management of Quiet Areas in EU Countries, though regulated by the EU Directive 49/2002/CE on Environmental Noise, appear to be extremely fragmented and inhomogeneous. In fact, each country during past years has adopted a set of strategies strictly related to their specific contex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main aim of QUADMAP is to develop a harmonized methodology fo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ombining quantitative and qualitative parameters) an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noise mitigation, increasing of usability of areas and user’s satisfaction) of Urban Quiet Areas (UQ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results of the project will facilitate urban planners to apply standard procedures for identification, delimitation and prioritization of UQ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565200" y="971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Project Objecti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1"/>
          <p:cNvSpPr/>
          <p:nvPr/>
        </p:nvSpPr>
        <p:spPr>
          <a:xfrm>
            <a:off x="1079640" y="1603440"/>
            <a:ext cx="705636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A: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B: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C: Demon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D: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E: General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565200" y="971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Packages and A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"/>
          <p:cNvSpPr/>
          <p:nvPr/>
        </p:nvSpPr>
        <p:spPr>
          <a:xfrm>
            <a:off x="0" y="5084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rt data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01.09.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pected end data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.09.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0" y="162864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Arial"/>
              </a:rPr>
              <a:t>Package A: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A.1 - Method for data collection definition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s A.2 / A.5 - Data collection and analysis - The Netherlands, Belgium, Norway and United Kingdom (DCMR EPA) – Italy and Germany (VIENROSE) – Spain and Portugal (TECNALIA) – France (BRUITPARI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565200" y="971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Packages and A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5129280" y="3716280"/>
            <a:ext cx="4014720" cy="26668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"/>
          <p:cNvSpPr/>
          <p:nvPr/>
        </p:nvSpPr>
        <p:spPr>
          <a:xfrm>
            <a:off x="0" y="3716280"/>
            <a:ext cx="507672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ckage B: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B.6 - UQA methodologies for selection, analysis and definition both strategic and operative actions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ttangolo 5"/>
          <p:cNvSpPr/>
          <p:nvPr/>
        </p:nvSpPr>
        <p:spPr>
          <a:xfrm>
            <a:off x="5627520" y="3989520"/>
            <a:ext cx="1465560" cy="503280"/>
          </a:xfrm>
          <a:prstGeom prst="rect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ttangolo 6"/>
          <p:cNvSpPr/>
          <p:nvPr/>
        </p:nvSpPr>
        <p:spPr>
          <a:xfrm>
            <a:off x="6516720" y="4437000"/>
            <a:ext cx="576360" cy="216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5129280" y="3716280"/>
            <a:ext cx="4014720" cy="266688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"/>
          <p:cNvSpPr/>
          <p:nvPr/>
        </p:nvSpPr>
        <p:spPr>
          <a:xfrm>
            <a:off x="0" y="1268280"/>
            <a:ext cx="9144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7030a0"/>
                </a:solidFill>
                <a:latin typeface="Arial"/>
              </a:rPr>
              <a:t>Package C: Demon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C.7 / C.12 - Pilot areas selection, interventions design and accomplishment will be carried out in FIRENZ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chool gardens and squar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BILBAO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urban and peri-urban quiet area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and in a city of The Netherlands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quiet areas in the city centre and residential plac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pected infrastructural costs = 655.000,00 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565200" y="836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Packages and A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0" y="3308400"/>
            <a:ext cx="5076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Arial"/>
              </a:rPr>
              <a:t>Package D: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D.13 - Methodology optimization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ckage E: General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s E.14 / E.20 – Dissemination (all partners will be involv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E.21/22/23 - Project Management/Monitoring/Networking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ttangolo 5"/>
          <p:cNvSpPr/>
          <p:nvPr/>
        </p:nvSpPr>
        <p:spPr>
          <a:xfrm>
            <a:off x="7068960" y="4581360"/>
            <a:ext cx="1032120" cy="648000"/>
          </a:xfrm>
          <a:prstGeom prst="rect">
            <a:avLst/>
          </a:pr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ttangolo 6"/>
          <p:cNvSpPr/>
          <p:nvPr/>
        </p:nvSpPr>
        <p:spPr>
          <a:xfrm>
            <a:off x="7068960" y="5229360"/>
            <a:ext cx="1032120" cy="81000"/>
          </a:xfrm>
          <a:prstGeom prst="rect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ttangolo 7"/>
          <p:cNvSpPr/>
          <p:nvPr/>
        </p:nvSpPr>
        <p:spPr>
          <a:xfrm>
            <a:off x="6516720" y="5334120"/>
            <a:ext cx="1751040" cy="7189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ttangolo 8"/>
          <p:cNvSpPr/>
          <p:nvPr/>
        </p:nvSpPr>
        <p:spPr>
          <a:xfrm>
            <a:off x="5651640" y="6093000"/>
            <a:ext cx="2616120" cy="2887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565200" y="971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Expected resul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"/>
          <p:cNvSpPr/>
          <p:nvPr/>
        </p:nvSpPr>
        <p:spPr>
          <a:xfrm>
            <a:off x="611280" y="1700280"/>
            <a:ext cx="8532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 guideline about a harmonized method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elec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and management  of Urban Quiet Areas (UQ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duction up to 10-15% of the time required in order to derive UQAs management solutions in those countries where such a methodology is still factually la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respect to the average situation pointed out by surveys in package A, the harmonized approach is additionally expected to increase citizens' satisfaction about UQA of at least: 40% in UQA selection; 30% in UQA analysis; 20% in UQA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base, publicly available,  comprising the collected methodologies along with their li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-the-field data employed for case studies will be published, along with applicative examples (design solu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9:14:23Z</dcterms:created>
  <dc:creator>nome</dc:creator>
  <dc:description/>
  <dc:language>en-US</dc:language>
  <cp:lastModifiedBy>WOLFERT</cp:lastModifiedBy>
  <dcterms:modified xsi:type="dcterms:W3CDTF">2013-07-24T08:09:12Z</dcterms:modified>
  <cp:revision>886</cp:revision>
  <dc:subject/>
  <dc:title>Diapositiva 1</dc:title>
</cp:coreProperties>
</file>